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94E-F61F-4903-BBEE-6D52FA45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657-00E9-4EED-85A9-FD43845D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5B3-3E78-443E-888A-EF5B1CF8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013-F100-4F19-9C82-9F3E04AD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F543-87AD-43CA-8AFC-E95FE18B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2CA2-AB15-4E49-9EE0-D0E41200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5687-2E22-4FEA-AE44-C4A7F619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F8E2-9E24-4D53-9E4E-7F7E3A7E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2C6C-75A9-4EF3-9705-DBA03B0E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1803-2031-4AED-81DC-0218201E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5DA8-5155-411A-97D5-845BAF34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CD9C-D8D0-4FD7-A151-B8ABAC1B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09DF-0940-4787-888D-713E56F9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E8AC-78F4-41E7-94F1-B737A725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11D3-7A26-4702-87B1-66AB194C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9BCD-3C3B-425D-A91F-34085BF3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10C7-9078-4B41-86E8-014BE046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BBE-B5DE-4A60-B6C5-68C697E9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9C0B-42B3-42AE-9D21-65229724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CEB-1CEF-401B-9FA3-D1BA0F96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CF1-8F6B-4038-AF1D-8B5D9AA1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80FD-83A9-444F-9B3B-306C9063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60D6-4C56-47C6-A111-34D6E598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18C-5B4A-4EBD-858F-57E20D0D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533520"/>
            <a:ext cx="8152920" cy="1599840"/>
            <a:chOff x="457200" y="53352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840" y="53352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3760" y="69840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2360" y="91908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24308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DFE8-C0C0-4A1B-986F-6264D8096C1C}" type="slidenum">
              <a:rPr b="0" lang="en-CA" sz="16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04920" y="2286000"/>
            <a:ext cx="8152920" cy="1447560"/>
            <a:chOff x="304920" y="2286000"/>
            <a:chExt cx="8152920" cy="1447560"/>
          </a:xfrm>
        </p:grpSpPr>
        <p:sp>
          <p:nvSpPr>
            <p:cNvPr id="47" name=""/>
            <p:cNvSpPr/>
            <p:nvPr/>
          </p:nvSpPr>
          <p:spPr>
            <a:xfrm>
              <a:off x="2734560" y="2286000"/>
              <a:ext cx="5723280" cy="144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61480" y="2435040"/>
              <a:ext cx="5723280" cy="114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20080" y="2634840"/>
              <a:ext cx="5720400" cy="74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920" y="2927880"/>
              <a:ext cx="7918560" cy="14904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4DDD-6DCA-4BFC-92D3-5ACE93F893FA}" type="slidenum">
              <a:rPr b="0" lang="en-CA" sz="16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438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8776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31652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17553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17553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17553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2000"/>
            <a:ext cx="7772400" cy="103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cc66"/>
                </a:solidFill>
                <a:latin typeface="Times New Roman"/>
              </a:rPr>
              <a:t>Optická vlákna a práce         s nimi</a:t>
            </a:r>
            <a:endParaRPr b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imes New Roman"/>
              </a:rPr>
              <a:t>Ing. Pavel Schlitt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imes New Roman"/>
              </a:rPr>
              <a:t>místnost č. 619, 60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imes New Roman"/>
              </a:rPr>
              <a:t>tel.: 2435 2102, 209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Hutnost a flexibilita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ptická vlákna mají velkou pevnost v tahu, je možné je relativně dobře ohýbat               a zkrucova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nadná manipulace, transport a práce          s optickými vlákn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7302-6AB8-4E5C-AD0E-F2F07DDCDF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ystémová spolehlivost a jednoznačnost údržb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alý útlum =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&gt;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elší opakovací úseky =&gt; menší počet opakovačů nebo zesilovačů =&gt; větší spolehlivo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8FE-ADAD-43ED-944C-7E7C1B647E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Potenciální malé náklady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okonale zvládnuta technologie výrob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o výrobu nejsou využívány strategické surovi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měrně nákladné ostatní optické komponen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4BD-AA85-4514-AF32-2844CFEFE4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Blokové schéma optoelektrického systému     s optickým vláknem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2057400"/>
          <a:ext cx="8305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8305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A538-9C27-4116-A8E2-DE7A4DF455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Blokové schéma optoelektrického systému     s optickým vláknem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lektrický vysílač: elektrický stupeň pro buzení optického zdroj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ptický zdroj: elektricko-optická přeměna (LED, L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ptické vlákno: optické vlákno, optický kab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ptický detektor: PN, PIN, APD, PIN-FET detekto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1A9B-D1C3-4EC1-8190-C250782430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Blokové schéma optoelektrického systému     s optickým vláknem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lektrický přijímač: elektrický stupeň buzený detektor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B1D-88A6-42EA-BB90-32473513FE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e vláknové optice se využívají tři přenosová okn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850 nm - mnohavidová vlák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300 nm - mnohavidová vlákna (1310 nm - jednovidová vlákna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550 nm - jednovidová vlák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8777-3F82-4446-BAC2-A68341DDAA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Základní parametry a pojmy</a:t>
            </a:r>
            <a:br>
              <a:rPr sz="3200"/>
            </a:b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Útlum optických vlák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isperze v optických vlákne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umerická apertur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B9D-C245-435E-A51A-F485CF70F9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Útlum optických vláken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α = α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+ α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+ α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+ α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MO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+ α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B/k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α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bsorp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α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ayleighův rozpty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α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ozptyl na makroskopických neregularitá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α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MO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rozptyl na mikroohybe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α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rozptyl na makroohybe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8F81-62BA-435A-8CD0-1902B2B05D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Disperze v optických vláknech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isperze je příčinou zkreslení přenášeného signál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ochází ke zpožďování a rozšiřování impulzů a změně jejich tvar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ruhy disperz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ateriálová  -  n = f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λ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lnovodná    -  v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sk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= f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λ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AE8-3828-4FE5-9EB0-E34CB37720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ýhody komunikace s použitím optického vlákn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normní šířka pás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alé rozměry a hmotno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lektrická izol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dolnost proti elektromagnetické interferenci a přeslechů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ezpečnost přenosu optického signál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ízké ztráty při přenos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10F-F78D-4718-AF2C-D7DB0C6100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Disperze v optických vláknech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hromatická – společné označení pro materiálovou a vlnovodnou disperzi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larizační vidová - rozdílná rychlost šíření navzájem kolmých složek téhož vid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idová - pouze u mnohavidových vláken-rozdílná doba šíření jednotlivých vidů vlákn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339-00C3-4B7D-A6DF-8DDEE7D88B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Numerická apertura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dmínka pro vedení vln ve vlnovodu je totální odraz paprsku na rozhraní jádro/pláš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FC8E-1A20-47C9-8CBE-99E9916772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Numerická apertura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1677960"/>
          <a:ext cx="8742240" cy="441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7960"/>
                    <a:ext cx="8742240" cy="4417920"/>
                  </a:xfrm>
                  <a:prstGeom prst="rect">
                    <a:avLst/>
                  </a:prstGeom>
                  <a:ln cap="sq"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3DF2-CEE7-4689-A9EE-631405EBE1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Numerická apertura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A = sin θ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0m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= (n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– n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1/2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[-]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avedeme-li ∆ = (n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– n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)/n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1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[-]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ak NA = n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(2∆)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1/2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[-]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7081-657B-462D-B545-5655D979C5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láknové optické vlnovody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nohovidové (Multimode, MM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 skokovou změnou indexu lomu (Step Index, S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 gradientní změnou indexu lomu (Graded Index, G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Jednovidové (Singlemode, SM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7E6-03C8-434A-9F1C-98C07C180E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Mnohovidová vlákna se skokovou změnou indexu lomu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ůměr jádra 50 μm nebo 62,5 μ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ůměr pláště 125 μ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načíme 50/125 μm nebo 62,5/125 μ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ůměr primární ochrany 250 μ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Útlum 5 až 10 dB/k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Šířka pásma 50 až 100 MHz.k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B20-C205-46CE-BC5B-E04E9C8EAC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Mnohovidová vlákna se skokovou změnou indexu lomu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A = 0,2 (50/125 μm) a NA = 0,275 (62,5/125 μm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dex lomu jádra n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dex lomu pláště n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&gt;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n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Trajektorie paprsků - lomené úsečk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C38-25C9-455E-A1B0-CB59D92CA7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Mnohovidová vlákna se skokovou změnou indexu lomu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057040" y="2209320"/>
            <a:ext cx="5562720" cy="2895840"/>
            <a:chOff x="2057040" y="2209320"/>
            <a:chExt cx="5562720" cy="2895840"/>
          </a:xfrm>
        </p:grpSpPr>
        <p:grpSp>
          <p:nvGrpSpPr>
            <p:cNvPr id="148" name=""/>
            <p:cNvGrpSpPr/>
            <p:nvPr/>
          </p:nvGrpSpPr>
          <p:grpSpPr>
            <a:xfrm>
              <a:off x="2711520" y="2209320"/>
              <a:ext cx="4798800" cy="636120"/>
              <a:chOff x="2711520" y="2209320"/>
              <a:chExt cx="4798800" cy="636120"/>
            </a:xfrm>
          </p:grpSpPr>
          <p:sp>
            <p:nvSpPr>
              <p:cNvPr id="149" name=""/>
              <p:cNvSpPr/>
              <p:nvPr/>
            </p:nvSpPr>
            <p:spPr>
              <a:xfrm flipV="1">
                <a:off x="2711520" y="2209320"/>
                <a:ext cx="654120" cy="63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3474720" y="2209320"/>
                <a:ext cx="654120" cy="63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4238280" y="2209320"/>
                <a:ext cx="654120" cy="63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5110920" y="2209320"/>
                <a:ext cx="654120" cy="63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5983560" y="2209320"/>
                <a:ext cx="654120" cy="63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6856200" y="2209320"/>
                <a:ext cx="654120" cy="63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602440" y="2209680"/>
              <a:ext cx="5017320" cy="2895480"/>
              <a:chOff x="2602440" y="2209680"/>
              <a:chExt cx="5017320" cy="2895480"/>
            </a:xfrm>
          </p:grpSpPr>
          <p:sp>
            <p:nvSpPr>
              <p:cNvPr id="156" name=""/>
              <p:cNvSpPr/>
              <p:nvPr/>
            </p:nvSpPr>
            <p:spPr>
              <a:xfrm>
                <a:off x="2602440" y="3641040"/>
                <a:ext cx="5017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2602440" y="2209680"/>
                <a:ext cx="5017320" cy="2895480"/>
                <a:chOff x="2602440" y="2209680"/>
                <a:chExt cx="5017320" cy="28954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602440" y="2845800"/>
                  <a:ext cx="50173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602440" y="2209680"/>
                  <a:ext cx="50173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" name=""/>
                <p:cNvGrpSpPr/>
                <p:nvPr/>
              </p:nvGrpSpPr>
              <p:grpSpPr>
                <a:xfrm>
                  <a:off x="2602440" y="2209680"/>
                  <a:ext cx="5017320" cy="2895480"/>
                  <a:chOff x="2602440" y="2209680"/>
                  <a:chExt cx="5017320" cy="2895480"/>
                </a:xfrm>
              </p:grpSpPr>
              <p:grpSp>
                <p:nvGrpSpPr>
                  <p:cNvPr id="161" name=""/>
                  <p:cNvGrpSpPr/>
                  <p:nvPr/>
                </p:nvGrpSpPr>
                <p:grpSpPr>
                  <a:xfrm>
                    <a:off x="2602440" y="2209680"/>
                    <a:ext cx="5017320" cy="2862720"/>
                    <a:chOff x="2602440" y="2209680"/>
                    <a:chExt cx="5017320" cy="2862720"/>
                  </a:xfrm>
                </p:grpSpPr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2602440" y="4436280"/>
                      <a:ext cx="501732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 flipV="1">
                      <a:off x="2602440" y="2209680"/>
                      <a:ext cx="0" cy="2862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602440" y="5072400"/>
                      <a:ext cx="501732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619760" y="2209680"/>
                      <a:ext cx="0" cy="2862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6" name=""/>
                  <p:cNvSpPr/>
                  <p:nvPr/>
                </p:nvSpPr>
                <p:spPr>
                  <a:xfrm flipV="1">
                    <a:off x="2602440" y="2845440"/>
                    <a:ext cx="545040" cy="7952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3147480" y="2845800"/>
                    <a:ext cx="1199520" cy="15904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V="1">
                    <a:off x="4347360" y="2845800"/>
                    <a:ext cx="1199520" cy="15904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5547240" y="2845800"/>
                    <a:ext cx="1199520" cy="15904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V="1">
                    <a:off x="6747120" y="3481920"/>
                    <a:ext cx="872280" cy="954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2602440" y="4469040"/>
                    <a:ext cx="4798800" cy="636120"/>
                    <a:chOff x="2602440" y="4469040"/>
                    <a:chExt cx="4798800" cy="63612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 flipV="1">
                      <a:off x="2602440" y="4469040"/>
                      <a:ext cx="654120" cy="636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flipV="1">
                      <a:off x="3365640" y="4469040"/>
                      <a:ext cx="654120" cy="636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flipV="1">
                      <a:off x="4129200" y="4469040"/>
                      <a:ext cx="654120" cy="636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 flipV="1">
                      <a:off x="5001840" y="4469040"/>
                      <a:ext cx="654120" cy="636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 flipV="1">
                      <a:off x="5874480" y="4469040"/>
                      <a:ext cx="654120" cy="636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 flipV="1">
                      <a:off x="6747120" y="4469040"/>
                      <a:ext cx="654120" cy="636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78" name=""/>
            <p:cNvSpPr/>
            <p:nvPr/>
          </p:nvSpPr>
          <p:spPr>
            <a:xfrm>
              <a:off x="2275200" y="2209680"/>
              <a:ext cx="0" cy="63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057040" y="2845800"/>
              <a:ext cx="217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57400" y="2845800"/>
              <a:ext cx="0" cy="1590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57400" y="4436280"/>
              <a:ext cx="217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75200" y="4436280"/>
              <a:ext cx="0" cy="63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533-4A8E-419B-BB6A-AA2085676D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Mnohovidová  vlákna s gradientní změnou indexu lomu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ůměr jádra 50 μm nebo 62,5 μ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ůměr pláště 125 μ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načíme 50/125 μm nebo 62,5/125 μ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ůměr primární ochrany 250 μ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Útlum 0,8 až 5 dB/k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Šířka pásma 0,4 až 1,5 GHz.k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105-AA49-4E82-9660-505A2AFD26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Mnohovidová  vlákna s gradientní změnou indexu lomu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A = 0,2 (50/125 μm) a NA = 0,275 (62,5/125 μm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dex lomu jádra n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dex lomu pláště n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&gt;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n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Trajektorie paprsků - zakřivení odpovídá sinu, což umožňuje dosažení větší šířky pás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0DC1-E70B-4A31-9596-57FD3AB5D3C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ýhody komunikace s použitím optického vlákn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Hutnost a flexibili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ystémová spolehlivost a jednoznačnost údržb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tenciální malé nákla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BB0-5D80-4C94-8179-E5EB4DD92D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Mnohovidová  vlákna s gradientní změnou indexu lomu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90720" y="1854360"/>
          <a:ext cx="6476760" cy="43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4360"/>
                    <a:ext cx="647676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"/>
          <p:cNvGrpSpPr/>
          <p:nvPr/>
        </p:nvGrpSpPr>
        <p:grpSpPr>
          <a:xfrm>
            <a:off x="1676520" y="2742840"/>
            <a:ext cx="5790960" cy="2743560"/>
            <a:chOff x="1676520" y="2742840"/>
            <a:chExt cx="5790960" cy="2743560"/>
          </a:xfrm>
        </p:grpSpPr>
        <p:grpSp>
          <p:nvGrpSpPr>
            <p:cNvPr id="191" name=""/>
            <p:cNvGrpSpPr/>
            <p:nvPr/>
          </p:nvGrpSpPr>
          <p:grpSpPr>
            <a:xfrm>
              <a:off x="2534400" y="2743200"/>
              <a:ext cx="4933080" cy="2743200"/>
              <a:chOff x="2534400" y="2743200"/>
              <a:chExt cx="4933080" cy="2743200"/>
            </a:xfrm>
          </p:grpSpPr>
          <p:sp>
            <p:nvSpPr>
              <p:cNvPr id="192" name=""/>
              <p:cNvSpPr/>
              <p:nvPr/>
            </p:nvSpPr>
            <p:spPr>
              <a:xfrm>
                <a:off x="2534400" y="3352680"/>
                <a:ext cx="4933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534400" y="3254400"/>
                <a:ext cx="4901760" cy="1688040"/>
              </a:xfrm>
              <a:custGeom>
                <a:avLst/>
                <a:gdLst/>
                <a:ahLst/>
                <a:rect l="l" t="t" r="r" b="b"/>
                <a:pathLst>
                  <a:path w="6582" h="1595">
                    <a:moveTo>
                      <a:pt x="0" y="789"/>
                    </a:moveTo>
                    <a:cubicBezTo>
                      <a:pt x="142" y="677"/>
                      <a:pt x="468" y="0"/>
                      <a:pt x="852" y="120"/>
                    </a:cubicBezTo>
                    <a:cubicBezTo>
                      <a:pt x="1236" y="240"/>
                      <a:pt x="1794" y="1517"/>
                      <a:pt x="2304" y="1509"/>
                    </a:cubicBezTo>
                    <a:cubicBezTo>
                      <a:pt x="2814" y="1501"/>
                      <a:pt x="3392" y="76"/>
                      <a:pt x="3912" y="75"/>
                    </a:cubicBezTo>
                    <a:cubicBezTo>
                      <a:pt x="4432" y="74"/>
                      <a:pt x="4982" y="1405"/>
                      <a:pt x="5427" y="1500"/>
                    </a:cubicBezTo>
                    <a:cubicBezTo>
                      <a:pt x="5872" y="1595"/>
                      <a:pt x="6342" y="823"/>
                      <a:pt x="6582" y="64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534400" y="2743200"/>
                <a:ext cx="4933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2534400" y="2743200"/>
                <a:ext cx="4933080" cy="2743200"/>
                <a:chOff x="2534400" y="2743200"/>
                <a:chExt cx="4933080" cy="27432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534400" y="4876560"/>
                  <a:ext cx="4933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2534400" y="2743200"/>
                  <a:ext cx="0" cy="2743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534400" y="5486400"/>
                  <a:ext cx="4933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67480" y="2743200"/>
                  <a:ext cx="0" cy="2743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2534400" y="4114800"/>
                <a:ext cx="4933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534400" y="4876200"/>
              <a:ext cx="4718520" cy="609480"/>
              <a:chOff x="2534400" y="4876200"/>
              <a:chExt cx="4718520" cy="609480"/>
            </a:xfrm>
          </p:grpSpPr>
          <p:sp>
            <p:nvSpPr>
              <p:cNvPr id="202" name=""/>
              <p:cNvSpPr/>
              <p:nvPr/>
            </p:nvSpPr>
            <p:spPr>
              <a:xfrm flipV="1">
                <a:off x="2534400" y="4876200"/>
                <a:ext cx="64332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3285000" y="4876200"/>
                <a:ext cx="64332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4035600" y="4876200"/>
                <a:ext cx="64332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4893480" y="4876200"/>
                <a:ext cx="64332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5751360" y="4876200"/>
                <a:ext cx="64332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6609600" y="4876200"/>
                <a:ext cx="64332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2534400" y="2742840"/>
              <a:ext cx="4718520" cy="609480"/>
              <a:chOff x="2534400" y="2742840"/>
              <a:chExt cx="4718520" cy="60948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2534400" y="2742840"/>
                <a:ext cx="64332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3285000" y="2742840"/>
                <a:ext cx="64332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4035600" y="2742840"/>
                <a:ext cx="64332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4893480" y="2742840"/>
                <a:ext cx="64332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5751360" y="2742840"/>
                <a:ext cx="64332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6609600" y="2742840"/>
                <a:ext cx="64332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2212560" y="274320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12560" y="487656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76520" y="3352680"/>
              <a:ext cx="536040" cy="1523880"/>
            </a:xfrm>
            <a:custGeom>
              <a:avLst/>
              <a:gdLst/>
              <a:ahLst/>
              <a:rect l="l" t="t" r="r" b="b"/>
              <a:pathLst>
                <a:path w="720" h="1440">
                  <a:moveTo>
                    <a:pt x="720" y="0"/>
                  </a:moveTo>
                  <a:cubicBezTo>
                    <a:pt x="360" y="240"/>
                    <a:pt x="0" y="480"/>
                    <a:pt x="0" y="720"/>
                  </a:cubicBezTo>
                  <a:cubicBezTo>
                    <a:pt x="0" y="960"/>
                    <a:pt x="600" y="1320"/>
                    <a:pt x="720" y="144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2AB8-59CC-4B26-9A05-44A809E7EF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Jednovidová vlákna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ůměr jádra 4 až 8 μ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ůměr pláště 125 μ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ůměr primární ochrany 250 μ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Útlum 0,35 dB/km při 1310 nm                   a 0,23 dB/km při 1550 n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Šířka pásma  100 GHz.k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A362-D375-41EF-99AE-5636075C01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Jednovidová vlákna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A = 0,12 až 0,1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dex lomu jádra n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ndex lomu pláště n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&gt;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n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Šíří se pouze jediný paprsek - osov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D7B-5BEC-477E-9F41-8FB0610811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Jednovidová vlákna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66680" y="1981080"/>
          <a:ext cx="69343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6934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5" name=""/>
          <p:cNvGrpSpPr/>
          <p:nvPr/>
        </p:nvGrpSpPr>
        <p:grpSpPr>
          <a:xfrm>
            <a:off x="2057040" y="3123720"/>
            <a:ext cx="5029560" cy="2514960"/>
            <a:chOff x="2057040" y="3123720"/>
            <a:chExt cx="5029560" cy="2514960"/>
          </a:xfrm>
        </p:grpSpPr>
        <p:sp>
          <p:nvSpPr>
            <p:cNvPr id="226" name=""/>
            <p:cNvSpPr/>
            <p:nvPr/>
          </p:nvSpPr>
          <p:spPr>
            <a:xfrm>
              <a:off x="2550240" y="3962160"/>
              <a:ext cx="453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50240" y="3124080"/>
              <a:ext cx="453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50240" y="4800240"/>
              <a:ext cx="453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550240" y="3123720"/>
              <a:ext cx="0" cy="25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50240" y="5638680"/>
              <a:ext cx="453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86600" y="3124080"/>
              <a:ext cx="0" cy="25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50240" y="4381200"/>
              <a:ext cx="453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550240" y="4800240"/>
              <a:ext cx="88740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40720" y="4800240"/>
              <a:ext cx="88740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930840" y="4800240"/>
              <a:ext cx="88740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719960" y="4800240"/>
              <a:ext cx="88740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508720" y="4800240"/>
              <a:ext cx="88740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297840" y="4800240"/>
              <a:ext cx="78876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550240" y="3124080"/>
              <a:ext cx="591480" cy="55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944800" y="3124080"/>
              <a:ext cx="88740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634920" y="3124080"/>
              <a:ext cx="88740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4424040" y="3124080"/>
              <a:ext cx="88740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212800" y="3124080"/>
              <a:ext cx="88740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001920" y="3124080"/>
              <a:ext cx="88740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54320" y="312408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057040" y="3962160"/>
              <a:ext cx="196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396216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57400" y="4800240"/>
              <a:ext cx="196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54320" y="48002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8C7F-8083-4969-88BB-7CF1E6CA87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ýhody jednovidových vláken oproti mnohovidovým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enší útl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enší disper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řenos na delší vzdále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ětší šířka přenosového pás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A00-6FBB-41A7-ABEB-AC6EB82B522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ýhody mnohovidových vláken oproti jednovidovým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ětší hodnota NA =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snadnější navazování světla do vlák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ožnost budit pomocí 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nadnější spojování vlák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D12-37FC-4894-99BF-46F6D60822E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ýroba optických vláken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ytvoří se preforma - tyčinka z SiO</a:t>
            </a:r>
            <a:r>
              <a:rPr b="0" lang="cs-CZ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         s příměsemi – např. 1 m dlouhá a např.     15 mm v průměr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Tažení z preformy - zahřívání plamen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pětná kontro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patřování ochrannými vrstvam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avíjení na bub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494-4232-4E02-ACD2-9F0D23BE2B1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Optické kabely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kládají se až ze 144 optických vlák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ejčastější počty vláken jsou: 6, 8,12, 16, 24, 36, 48, 64, 96, 120, 14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utná ochrana proti vlhkosti - ge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chrana proti mechanickému poškození - tuhá ochrana,  pokládka do ochranných trubek, ochrana kevlarem - proti broků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7E5-09BB-4F1A-9AD3-9D430148964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Optické kabely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ýrobní délky nejčastěji 2, 4 nebo 6 k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jování v kabelových spojkách - nutná ochrana proti vlhkosti a dalším vlivů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 každé kabelové spojce je nutné spojit všechna vlákna - nejčastěji svařením pomocí svářečky optických vlák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alší možnost spojení vláken je konek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6B1-3D83-40FC-BC83-1D1E07D73CF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Optické kabely - možnosti instalace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ombinovaná zemní lana - na stožárech vvn - energ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chranné trubky v zemi - nejčastěj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afukování - kompresory - max. 1 k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atahování - vnitřní strana trubky musí klouzat - nebezpečí mechanického poškoz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669-D459-4C87-9611-5EFA982D95D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Enormní šířka pásma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ptická nosná 10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13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10</a:t>
            </a:r>
            <a:r>
              <a:rPr b="0" lang="cs-CZ" sz="3200" spc="-1" strike="noStrike" baseline="30000">
                <a:solidFill>
                  <a:srgbClr val="ffffcc"/>
                </a:solidFill>
                <a:latin typeface="Times New Roman"/>
              </a:rPr>
              <a:t>16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 Hz, což umožňuje využívat širší přenosová pásma ve srovnání s koaxiálním párem a radiotechniko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nes se využívají jednokanálové přenosové systémy s 2,5 Gbit/s, či dokonce 10 Gbit/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udoucnost je ve WDM (Wavelength Division Multiplexing) - vlnový multiplex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CC7-A550-4F89-9667-BF42341380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Literatura a další informace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chlitter, M.: Telekomunikační vedení. Doplňkové skriptum, ČVUT 198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ýkora, J.: Přednášky z Telekomunikačního vedení, zimní semestr 2000/200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Boháč, L.: Přenášky z Optických komunikac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chlitter, P.: veškeré díl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ED9-2210-4F5D-8C41-2D5AAC64462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Malé rozměry a váha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ptická vlákna mají mnohem menší rozměry a hmotnost v porovnání                  s metalickými páry =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&gt;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nažší zacházení      a prá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4716-6B07-4D2A-AE9E-5D84F82D24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Elektrická izolace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ateriály pro výrobu optických vláken jsou dielektr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užití v elektricky hazardních prostřed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ení problém s elektrickým přizpůsoben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9476-4448-4245-B9E7-0B69C75621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Odolnost proti elektromagnetické interferenci a přeslechům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eexistuje přeslech mezi jednotlivými vlákny kabelu =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 možnost využívání optického kabelu v silně rušeném elektromagnetickém prostřed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D9B-EDAD-4274-B3F3-48F37C24E4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Bezpečnost přenosu optického signálu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ptické vlákno nevyzařuje světlo do okol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ři vyvázání optického signálu dojde ke snížení přenášeného výkonu =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&gt;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etekce      v koncovém zařízení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yužití zvláště pro bankovnictví, armádu, at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79A-6F67-4052-BFFE-4203F808B2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Nízké ztráty při přenosu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íky vývoji se dnes útlum optických vláken pohybuje v desetinách dB/k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Umožnění velkých vzdáleností mezi opakovač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D99-7A9E-485F-9228-B81346432A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8:11:39Z</dcterms:created>
  <dc:creator>Doc. Ing. Miloš Schlitter, CSc.</dc:creator>
  <dc:description/>
  <dc:language>en-US</dc:language>
  <cp:lastModifiedBy>JIRINA</cp:lastModifiedBy>
  <dcterms:modified xsi:type="dcterms:W3CDTF">2000-11-07T08:58:00Z</dcterms:modified>
  <cp:revision>34</cp:revision>
  <dc:subject/>
  <dc:title>Optická vlákna a práce s nimi</dc:title>
</cp:coreProperties>
</file>