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285-5FDE-40A3-B8B0-D7C6FC20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C52-A1B3-43D3-9071-D127DDA3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1FC-915F-4DAA-A20E-CF04B215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6BD-361B-4C9A-A870-9BB057DF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CA5-F11F-4FB0-AEF0-9DE8515C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42BD-AD3A-4F29-A222-C1B93D02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D3E1-AC75-4C24-8781-534E4939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1D2-5D7B-48A7-A828-0C4118FD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E1D8-6CA4-494C-B392-6579FD4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4A5-B2D7-41EF-9D91-FE048805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178-4FAC-4545-BC73-0751EA8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5CC-AF41-40A6-A172-1909C7F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D97-582A-4592-87D0-DB3C357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3015-1814-449F-8A75-B198D01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295-7834-43E0-BADF-5B89268A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D25E-DE65-413C-9170-5D288480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E16A-86D0-4018-B2A8-92A8E947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DBD-5C5B-4103-8C29-D63757D1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9BC-1987-43DE-9B37-B46658A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7F6-89AC-4986-B2C6-D918CBE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237-FE29-41BD-A640-297CCDF2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616-50F4-426E-9923-E61F59F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B77-F215-4613-A8C4-47906AC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7A7-F766-4EAE-94B4-2F102C3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8BB-5797-45E4-AFC7-3AAC6ABCDBA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EA7-FEAB-471F-90D6-1F92A6C00A46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TKV-Metalická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VUT-Pra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ávěsné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kládají se na různé podpěry v kolektorech nebo v Me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ymetrické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odiče proti zemi mají shodné impedance (elektrická symetrie vůči zem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nam minimalizace vnějšího rušení (minimální induk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6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ymetrického kabel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ád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užívané materiály CU(dříve Al- špatné mechanické vlastnosti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roba žíháním a srážením přes průvlaková očka, až na požadovaný průměr, poslední očko je diamantové a kalibrované (přesnost na 0.001 m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í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ádro s izolací buď papírovou nebo styroflexovou (PE izolace je příliš tlustá, proto se nepoužívá pro dálková vede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dstatou papírové izolace je provázek navinutý do spirály na jádro a přes něj namotaný papírový pásek (suchý vzduch velmi dobrý izola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6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ymetrického kabel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belová duš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zniká stáčením prvků (prvek vzniká stáčením jednotlivých žil do párů nebo čtyře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táčení buď koncentrické nebo skupinov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559800" indent="-1119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koncentrické stáčení  -prvky se stáčejí v protisměrných vrstvách (možnost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odpočíta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59800" indent="-1119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skupinové stáčení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-1 skupina nejčastěji 25,50,100 párů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š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louží k ochraně kabelové duš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ětšinou se používá jako materiál olovo (Pb), které se leguje pro zlepšení parametrů antimonem (S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lternativou je hliníkový plášť (Al vyšší vodivost než Pb - stínící účink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ako ochrana proti vlhkosti bitumen nebo plast, proti poškození pancéřové opláště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á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-142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zniká stáčením dvou ž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řížová čtyř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N, X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-142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zniká stáčením 4 žil s jednotnou délkou zkrutu (tj. řez v kterémkoli místě má tvar kříž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-142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ři výrobě nerovnoměrným bržděním bubínků dochází k propadům (vznik systematické vazby - důsledek kapacitní nesymetrie, nepoužitelné pro vf přen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0">
              <a:spcBef>
                <a:spcPts val="70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32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Vytváření prvků kabel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3880" y="4800600"/>
            <a:ext cx="1657440" cy="1793160"/>
            <a:chOff x="1523880" y="4800600"/>
            <a:chExt cx="1657440" cy="1793160"/>
          </a:xfrm>
        </p:grpSpPr>
        <p:sp>
          <p:nvSpPr>
            <p:cNvPr id="129" name=""/>
            <p:cNvSpPr/>
            <p:nvPr/>
          </p:nvSpPr>
          <p:spPr>
            <a:xfrm>
              <a:off x="2190600" y="5829120"/>
              <a:ext cx="381240" cy="362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66960" y="5581800"/>
              <a:ext cx="380880" cy="361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52800" y="5295960"/>
              <a:ext cx="380880" cy="361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523880" y="4800600"/>
              <a:ext cx="1657440" cy="1793160"/>
              <a:chOff x="1523880" y="4800600"/>
              <a:chExt cx="1657440" cy="17931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523880" y="4800600"/>
                <a:ext cx="1657440" cy="1793160"/>
                <a:chOff x="1523880" y="4800600"/>
                <a:chExt cx="1657440" cy="17931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476440" y="5543640"/>
                  <a:ext cx="380880" cy="3618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266920" y="5429160"/>
                  <a:ext cx="133200" cy="133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304720" y="5943600"/>
                  <a:ext cx="133560" cy="13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019240" y="5695920"/>
                  <a:ext cx="133200" cy="13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90600" y="48006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171520" y="61340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523880" y="55054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00080" y="55054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2590920" y="5657760"/>
                <a:ext cx="13320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543640" y="1905120"/>
            <a:ext cx="1561680" cy="459720"/>
            <a:chOff x="5543640" y="1905120"/>
            <a:chExt cx="1561680" cy="459720"/>
          </a:xfrm>
        </p:grpSpPr>
        <p:sp>
          <p:nvSpPr>
            <p:cNvPr id="144" name=""/>
            <p:cNvSpPr/>
            <p:nvPr/>
          </p:nvSpPr>
          <p:spPr>
            <a:xfrm>
              <a:off x="5943600" y="1942920"/>
              <a:ext cx="380520" cy="362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3560" y="1942920"/>
              <a:ext cx="380520" cy="362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76800" y="2076480"/>
              <a:ext cx="13320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57680" y="2076480"/>
              <a:ext cx="13320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4364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2444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43680" y="4915080"/>
            <a:ext cx="419040" cy="857160"/>
            <a:chOff x="5143680" y="4915080"/>
            <a:chExt cx="419040" cy="857160"/>
          </a:xfrm>
        </p:grpSpPr>
        <p:grpSp>
          <p:nvGrpSpPr>
            <p:cNvPr id="151" name=""/>
            <p:cNvGrpSpPr/>
            <p:nvPr/>
          </p:nvGrpSpPr>
          <p:grpSpPr>
            <a:xfrm>
              <a:off x="5143680" y="5410440"/>
              <a:ext cx="380880" cy="361800"/>
              <a:chOff x="5143680" y="5410440"/>
              <a:chExt cx="380880" cy="361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143680" y="5410440"/>
                <a:ext cx="380880" cy="361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57800" y="5543640"/>
                <a:ext cx="133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181840" y="4915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24600" y="5829480"/>
            <a:ext cx="399960" cy="764280"/>
            <a:chOff x="5124600" y="5829480"/>
            <a:chExt cx="399960" cy="764280"/>
          </a:xfrm>
        </p:grpSpPr>
        <p:grpSp>
          <p:nvGrpSpPr>
            <p:cNvPr id="156" name=""/>
            <p:cNvGrpSpPr/>
            <p:nvPr/>
          </p:nvGrpSpPr>
          <p:grpSpPr>
            <a:xfrm>
              <a:off x="5143680" y="5829480"/>
              <a:ext cx="380880" cy="361800"/>
              <a:chOff x="5143680" y="5829480"/>
              <a:chExt cx="380880" cy="361800"/>
            </a:xfrm>
          </p:grpSpPr>
          <p:sp>
            <p:nvSpPr>
              <p:cNvPr id="157" name=""/>
              <p:cNvSpPr/>
              <p:nvPr/>
            </p:nvSpPr>
            <p:spPr>
              <a:xfrm>
                <a:off x="5143680" y="5829480"/>
                <a:ext cx="380880" cy="361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57800" y="5943600"/>
                <a:ext cx="133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5124600" y="6134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81560" y="5334120"/>
            <a:ext cx="723960" cy="459720"/>
            <a:chOff x="4381560" y="5334120"/>
            <a:chExt cx="723960" cy="459720"/>
          </a:xfrm>
        </p:grpSpPr>
        <p:grpSp>
          <p:nvGrpSpPr>
            <p:cNvPr id="161" name=""/>
            <p:cNvGrpSpPr/>
            <p:nvPr/>
          </p:nvGrpSpPr>
          <p:grpSpPr>
            <a:xfrm>
              <a:off x="4724640" y="5410440"/>
              <a:ext cx="380880" cy="361800"/>
              <a:chOff x="4724640" y="5410440"/>
              <a:chExt cx="380880" cy="361800"/>
            </a:xfrm>
          </p:grpSpPr>
          <p:sp>
            <p:nvSpPr>
              <p:cNvPr id="162" name=""/>
              <p:cNvSpPr/>
              <p:nvPr/>
            </p:nvSpPr>
            <p:spPr>
              <a:xfrm>
                <a:off x="4724640" y="5410440"/>
                <a:ext cx="380880" cy="3618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76920" y="5524560"/>
                <a:ext cx="133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381560" y="5334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524560" y="5353200"/>
            <a:ext cx="704880" cy="459720"/>
            <a:chOff x="5524560" y="5353200"/>
            <a:chExt cx="704880" cy="459720"/>
          </a:xfrm>
        </p:grpSpPr>
        <p:sp>
          <p:nvSpPr>
            <p:cNvPr id="166" name=""/>
            <p:cNvSpPr/>
            <p:nvPr/>
          </p:nvSpPr>
          <p:spPr>
            <a:xfrm>
              <a:off x="5848560" y="535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524560" y="5391360"/>
              <a:ext cx="381240" cy="361800"/>
              <a:chOff x="5524560" y="5391360"/>
              <a:chExt cx="381240" cy="361800"/>
            </a:xfrm>
          </p:grpSpPr>
          <p:sp>
            <p:nvSpPr>
              <p:cNvPr id="168" name=""/>
              <p:cNvSpPr/>
              <p:nvPr/>
            </p:nvSpPr>
            <p:spPr>
              <a:xfrm>
                <a:off x="5524560" y="5391360"/>
                <a:ext cx="381240" cy="3618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39040" y="5505480"/>
                <a:ext cx="13320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M čtyřka (XV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-148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iesel Horst-Martinova čtyř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-148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zniká stáčením 2 párů (délka zkrutu páru a,b=L1 a c,d=L2) s délkou zkrutu 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-148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dstranění systematické vazby vykřižováním v průběhu celého kabe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-148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obré vlastnosti pro vf pře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70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4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70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25880" indent="0">
              <a:spcBef>
                <a:spcPts val="45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Vytváření prvků kabel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876400" y="4724280"/>
            <a:ext cx="419040" cy="857160"/>
            <a:chOff x="2876400" y="4724280"/>
            <a:chExt cx="419040" cy="857160"/>
          </a:xfrm>
        </p:grpSpPr>
        <p:grpSp>
          <p:nvGrpSpPr>
            <p:cNvPr id="173" name=""/>
            <p:cNvGrpSpPr/>
            <p:nvPr/>
          </p:nvGrpSpPr>
          <p:grpSpPr>
            <a:xfrm>
              <a:off x="2876400" y="5219640"/>
              <a:ext cx="380880" cy="361800"/>
              <a:chOff x="2876400" y="5219640"/>
              <a:chExt cx="380880" cy="361800"/>
            </a:xfrm>
          </p:grpSpPr>
          <p:sp>
            <p:nvSpPr>
              <p:cNvPr id="174" name=""/>
              <p:cNvSpPr/>
              <p:nvPr/>
            </p:nvSpPr>
            <p:spPr>
              <a:xfrm>
                <a:off x="2876400" y="5219640"/>
                <a:ext cx="380880" cy="361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90520" y="5352840"/>
                <a:ext cx="133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91456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76400" y="5619600"/>
            <a:ext cx="380880" cy="361800"/>
            <a:chOff x="2876400" y="5619600"/>
            <a:chExt cx="380880" cy="361800"/>
          </a:xfrm>
        </p:grpSpPr>
        <p:sp>
          <p:nvSpPr>
            <p:cNvPr id="178" name=""/>
            <p:cNvSpPr/>
            <p:nvPr/>
          </p:nvSpPr>
          <p:spPr>
            <a:xfrm>
              <a:off x="2876400" y="5619600"/>
              <a:ext cx="380880" cy="361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0520" y="5733720"/>
              <a:ext cx="13320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5276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66920" y="5867280"/>
            <a:ext cx="723960" cy="459720"/>
            <a:chOff x="2266920" y="5867280"/>
            <a:chExt cx="723960" cy="459720"/>
          </a:xfrm>
        </p:grpSpPr>
        <p:grpSp>
          <p:nvGrpSpPr>
            <p:cNvPr id="182" name=""/>
            <p:cNvGrpSpPr/>
            <p:nvPr/>
          </p:nvGrpSpPr>
          <p:grpSpPr>
            <a:xfrm>
              <a:off x="2610000" y="5943600"/>
              <a:ext cx="380880" cy="361800"/>
              <a:chOff x="2610000" y="5943600"/>
              <a:chExt cx="380880" cy="361800"/>
            </a:xfrm>
          </p:grpSpPr>
          <p:sp>
            <p:nvSpPr>
              <p:cNvPr id="183" name=""/>
              <p:cNvSpPr/>
              <p:nvPr/>
            </p:nvSpPr>
            <p:spPr>
              <a:xfrm>
                <a:off x="2610000" y="5943600"/>
                <a:ext cx="380880" cy="3618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62280" y="6057720"/>
                <a:ext cx="133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266920" y="586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24080" y="5886360"/>
            <a:ext cx="704880" cy="459720"/>
            <a:chOff x="3124080" y="5886360"/>
            <a:chExt cx="704880" cy="459720"/>
          </a:xfrm>
        </p:grpSpPr>
        <p:sp>
          <p:nvSpPr>
            <p:cNvPr id="187" name=""/>
            <p:cNvSpPr/>
            <p:nvPr/>
          </p:nvSpPr>
          <p:spPr>
            <a:xfrm>
              <a:off x="3448080" y="5886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124080" y="5924520"/>
              <a:ext cx="381240" cy="361800"/>
              <a:chOff x="3124080" y="5924520"/>
              <a:chExt cx="381240" cy="361800"/>
            </a:xfrm>
          </p:grpSpPr>
          <p:sp>
            <p:nvSpPr>
              <p:cNvPr id="189" name=""/>
              <p:cNvSpPr/>
              <p:nvPr/>
            </p:nvSpPr>
            <p:spPr>
              <a:xfrm>
                <a:off x="3124080" y="5924520"/>
                <a:ext cx="381240" cy="3618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38560" y="6038640"/>
                <a:ext cx="13320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1428840" y="4280040"/>
            <a:ext cx="6514920" cy="450720"/>
          </a:xfrm>
          <a:custGeom>
            <a:avLst/>
            <a:gdLst/>
            <a:ahLst/>
            <a:rect l="l" t="t" r="r" b="b"/>
            <a:pathLst>
              <a:path w="4104" h="284">
                <a:moveTo>
                  <a:pt x="0" y="160"/>
                </a:moveTo>
                <a:cubicBezTo>
                  <a:pt x="148" y="80"/>
                  <a:pt x="296" y="0"/>
                  <a:pt x="468" y="4"/>
                </a:cubicBezTo>
                <a:cubicBezTo>
                  <a:pt x="640" y="8"/>
                  <a:pt x="842" y="180"/>
                  <a:pt x="1032" y="184"/>
                </a:cubicBezTo>
                <a:cubicBezTo>
                  <a:pt x="1222" y="188"/>
                  <a:pt x="1418" y="24"/>
                  <a:pt x="1608" y="28"/>
                </a:cubicBezTo>
                <a:cubicBezTo>
                  <a:pt x="1798" y="32"/>
                  <a:pt x="1968" y="204"/>
                  <a:pt x="2172" y="208"/>
                </a:cubicBezTo>
                <a:cubicBezTo>
                  <a:pt x="2376" y="212"/>
                  <a:pt x="2628" y="40"/>
                  <a:pt x="2832" y="52"/>
                </a:cubicBezTo>
                <a:cubicBezTo>
                  <a:pt x="3036" y="64"/>
                  <a:pt x="3184" y="276"/>
                  <a:pt x="3396" y="280"/>
                </a:cubicBezTo>
                <a:cubicBezTo>
                  <a:pt x="3608" y="284"/>
                  <a:pt x="3856" y="180"/>
                  <a:pt x="4104" y="76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04800" y="4267080"/>
            <a:ext cx="6515280" cy="470160"/>
          </a:xfrm>
          <a:custGeom>
            <a:avLst/>
            <a:gdLst/>
            <a:ahLst/>
            <a:rect l="l" t="t" r="r" b="b"/>
            <a:pathLst>
              <a:path w="4104" h="296">
                <a:moveTo>
                  <a:pt x="0" y="36"/>
                </a:moveTo>
                <a:cubicBezTo>
                  <a:pt x="220" y="106"/>
                  <a:pt x="440" y="176"/>
                  <a:pt x="648" y="180"/>
                </a:cubicBezTo>
                <a:cubicBezTo>
                  <a:pt x="856" y="184"/>
                  <a:pt x="1014" y="56"/>
                  <a:pt x="1248" y="60"/>
                </a:cubicBezTo>
                <a:cubicBezTo>
                  <a:pt x="1482" y="64"/>
                  <a:pt x="1818" y="212"/>
                  <a:pt x="2052" y="204"/>
                </a:cubicBezTo>
                <a:cubicBezTo>
                  <a:pt x="2286" y="196"/>
                  <a:pt x="2392" y="0"/>
                  <a:pt x="2652" y="12"/>
                </a:cubicBezTo>
                <a:cubicBezTo>
                  <a:pt x="2912" y="24"/>
                  <a:pt x="3370" y="256"/>
                  <a:pt x="3612" y="276"/>
                </a:cubicBezTo>
                <a:cubicBezTo>
                  <a:pt x="3854" y="296"/>
                  <a:pt x="3979" y="214"/>
                  <a:pt x="4104" y="132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4172040"/>
            <a:ext cx="6343560" cy="571320"/>
          </a:xfrm>
          <a:custGeom>
            <a:avLst/>
            <a:gdLst/>
            <a:ahLst/>
            <a:rect l="l" t="t" r="r" b="b"/>
            <a:pathLst>
              <a:path w="3996" h="360">
                <a:moveTo>
                  <a:pt x="0" y="0"/>
                </a:moveTo>
                <a:cubicBezTo>
                  <a:pt x="95" y="153"/>
                  <a:pt x="190" y="306"/>
                  <a:pt x="372" y="312"/>
                </a:cubicBezTo>
                <a:cubicBezTo>
                  <a:pt x="554" y="318"/>
                  <a:pt x="870" y="38"/>
                  <a:pt x="1092" y="36"/>
                </a:cubicBezTo>
                <a:cubicBezTo>
                  <a:pt x="1314" y="34"/>
                  <a:pt x="1508" y="290"/>
                  <a:pt x="1704" y="300"/>
                </a:cubicBezTo>
                <a:cubicBezTo>
                  <a:pt x="1900" y="310"/>
                  <a:pt x="2072" y="96"/>
                  <a:pt x="2268" y="96"/>
                </a:cubicBezTo>
                <a:cubicBezTo>
                  <a:pt x="2464" y="96"/>
                  <a:pt x="2690" y="292"/>
                  <a:pt x="2880" y="300"/>
                </a:cubicBezTo>
                <a:cubicBezTo>
                  <a:pt x="3070" y="308"/>
                  <a:pt x="3222" y="134"/>
                  <a:pt x="3408" y="144"/>
                </a:cubicBezTo>
                <a:cubicBezTo>
                  <a:pt x="3594" y="154"/>
                  <a:pt x="3795" y="257"/>
                  <a:pt x="3996" y="36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90680" y="4308480"/>
            <a:ext cx="6610320" cy="419040"/>
          </a:xfrm>
          <a:custGeom>
            <a:avLst/>
            <a:gdLst/>
            <a:ahLst/>
            <a:rect l="l" t="t" r="r" b="b"/>
            <a:pathLst>
              <a:path w="4164" h="264">
                <a:moveTo>
                  <a:pt x="0" y="94"/>
                </a:moveTo>
                <a:cubicBezTo>
                  <a:pt x="283" y="47"/>
                  <a:pt x="566" y="0"/>
                  <a:pt x="828" y="22"/>
                </a:cubicBezTo>
                <a:cubicBezTo>
                  <a:pt x="1090" y="44"/>
                  <a:pt x="1346" y="226"/>
                  <a:pt x="1572" y="226"/>
                </a:cubicBezTo>
                <a:cubicBezTo>
                  <a:pt x="1798" y="226"/>
                  <a:pt x="1950" y="16"/>
                  <a:pt x="2184" y="22"/>
                </a:cubicBezTo>
                <a:cubicBezTo>
                  <a:pt x="2418" y="28"/>
                  <a:pt x="2718" y="260"/>
                  <a:pt x="2976" y="262"/>
                </a:cubicBezTo>
                <a:cubicBezTo>
                  <a:pt x="3234" y="264"/>
                  <a:pt x="3534" y="42"/>
                  <a:pt x="3732" y="34"/>
                </a:cubicBezTo>
                <a:cubicBezTo>
                  <a:pt x="3930" y="26"/>
                  <a:pt x="4047" y="120"/>
                  <a:pt x="4164" y="214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2240" y="4000680"/>
            <a:ext cx="0" cy="876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4000680"/>
            <a:ext cx="0" cy="876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695920" y="4724280"/>
            <a:ext cx="419040" cy="857160"/>
            <a:chOff x="5695920" y="4724280"/>
            <a:chExt cx="419040" cy="857160"/>
          </a:xfrm>
        </p:grpSpPr>
        <p:grpSp>
          <p:nvGrpSpPr>
            <p:cNvPr id="198" name=""/>
            <p:cNvGrpSpPr/>
            <p:nvPr/>
          </p:nvGrpSpPr>
          <p:grpSpPr>
            <a:xfrm>
              <a:off x="5695920" y="5219640"/>
              <a:ext cx="380880" cy="361800"/>
              <a:chOff x="5695920" y="5219640"/>
              <a:chExt cx="380880" cy="361800"/>
            </a:xfrm>
          </p:grpSpPr>
          <p:sp>
            <p:nvSpPr>
              <p:cNvPr id="199" name=""/>
              <p:cNvSpPr/>
              <p:nvPr/>
            </p:nvSpPr>
            <p:spPr>
              <a:xfrm>
                <a:off x="5695920" y="5219640"/>
                <a:ext cx="380880" cy="361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0040" y="5352840"/>
                <a:ext cx="133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73408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924520" y="5562720"/>
            <a:ext cx="380880" cy="361800"/>
            <a:chOff x="5924520" y="5562720"/>
            <a:chExt cx="380880" cy="361800"/>
          </a:xfrm>
        </p:grpSpPr>
        <p:sp>
          <p:nvSpPr>
            <p:cNvPr id="203" name=""/>
            <p:cNvSpPr/>
            <p:nvPr/>
          </p:nvSpPr>
          <p:spPr>
            <a:xfrm>
              <a:off x="5924520" y="5562720"/>
              <a:ext cx="380880" cy="361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38640" y="5676840"/>
              <a:ext cx="13320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629400" y="5753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191280" y="5848200"/>
            <a:ext cx="380880" cy="361800"/>
            <a:chOff x="6191280" y="5848200"/>
            <a:chExt cx="380880" cy="361800"/>
          </a:xfrm>
        </p:grpSpPr>
        <p:sp>
          <p:nvSpPr>
            <p:cNvPr id="207" name=""/>
            <p:cNvSpPr/>
            <p:nvPr/>
          </p:nvSpPr>
          <p:spPr>
            <a:xfrm>
              <a:off x="6191280" y="5848200"/>
              <a:ext cx="380880" cy="361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43560" y="5962320"/>
              <a:ext cx="133560" cy="133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886360" y="6134040"/>
            <a:ext cx="380880" cy="361800"/>
            <a:chOff x="5886360" y="6134040"/>
            <a:chExt cx="380880" cy="361800"/>
          </a:xfrm>
        </p:grpSpPr>
        <p:sp>
          <p:nvSpPr>
            <p:cNvPr id="210" name=""/>
            <p:cNvSpPr/>
            <p:nvPr/>
          </p:nvSpPr>
          <p:spPr>
            <a:xfrm>
              <a:off x="5886360" y="6134040"/>
              <a:ext cx="380880" cy="361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38640" y="6248160"/>
              <a:ext cx="133560" cy="133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486400" y="598176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05400" y="5295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6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Nesymetrické (koaxiální)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lektricky nesymetrick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metricky přísně symetr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oří jeden nebo více koaxiálních párů (v telekomunikačních kabelech kombinované se symetrickými čtyřkami a páry = kombinované kabe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6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Nesymetrické (koaxiální)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krokoaxiální pár (D/d=2,8/0,65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užití do 5 MHz; max. přenosová rychlost 34 Mbit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lý koaxiální pár (D/d=4,4/1,2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užití do 18 MHz; max. přenosová rychlost 140 Mbit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 koaxiální pár (D/d=4,4/1,2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užití do 60 MHz; přenosová rychlost vyšší jak 140 Mbit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47800" y="4438800"/>
            <a:ext cx="5886720" cy="18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95800" y="4438800"/>
            <a:ext cx="582480" cy="18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6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Nesymetrické (koaxiální)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okonalá souosost  obou vodičů v průběhu celého kabe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eš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istanční kroužky navlečené na střední vodi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balónková izol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71840" y="4438800"/>
            <a:ext cx="15084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14760" y="4286160"/>
            <a:ext cx="362160" cy="495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86280" y="4286160"/>
            <a:ext cx="539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1000" y="4324320"/>
            <a:ext cx="3067200" cy="4381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0560" y="4286160"/>
            <a:ext cx="362160" cy="49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5960" y="4438800"/>
            <a:ext cx="150840" cy="18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48680" y="4286160"/>
            <a:ext cx="361800" cy="495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62240" y="4286160"/>
            <a:ext cx="914400" cy="495360"/>
            <a:chOff x="3162240" y="4286160"/>
            <a:chExt cx="914400" cy="495360"/>
          </a:xfrm>
        </p:grpSpPr>
        <p:sp>
          <p:nvSpPr>
            <p:cNvPr id="230" name=""/>
            <p:cNvSpPr/>
            <p:nvPr/>
          </p:nvSpPr>
          <p:spPr>
            <a:xfrm>
              <a:off x="3714840" y="4286160"/>
              <a:ext cx="361800" cy="49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9880" y="4438800"/>
              <a:ext cx="150840" cy="18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62240" y="445788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086280" y="4800600"/>
            <a:ext cx="539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4560" y="4286160"/>
            <a:ext cx="362160" cy="495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43360" y="4457880"/>
            <a:ext cx="68580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4760" y="4305240"/>
            <a:ext cx="362160" cy="49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10160" y="4438800"/>
            <a:ext cx="150840" cy="18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4457880"/>
            <a:ext cx="3812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10000" y="5905440"/>
            <a:ext cx="5734080" cy="206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33680" y="5924520"/>
            <a:ext cx="150840" cy="18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09920" y="5578560"/>
            <a:ext cx="4838760" cy="330120"/>
          </a:xfrm>
          <a:custGeom>
            <a:avLst/>
            <a:gdLst/>
            <a:ahLst/>
            <a:rect l="l" t="t" r="r" b="b"/>
            <a:pathLst>
              <a:path w="3588" h="196">
                <a:moveTo>
                  <a:pt x="0" y="182"/>
                </a:moveTo>
                <a:cubicBezTo>
                  <a:pt x="101" y="117"/>
                  <a:pt x="202" y="52"/>
                  <a:pt x="312" y="50"/>
                </a:cubicBezTo>
                <a:cubicBezTo>
                  <a:pt x="422" y="48"/>
                  <a:pt x="532" y="174"/>
                  <a:pt x="660" y="170"/>
                </a:cubicBezTo>
                <a:cubicBezTo>
                  <a:pt x="788" y="166"/>
                  <a:pt x="962" y="26"/>
                  <a:pt x="1080" y="26"/>
                </a:cubicBezTo>
                <a:cubicBezTo>
                  <a:pt x="1198" y="26"/>
                  <a:pt x="1242" y="174"/>
                  <a:pt x="1368" y="170"/>
                </a:cubicBezTo>
                <a:cubicBezTo>
                  <a:pt x="1494" y="166"/>
                  <a:pt x="1690" y="0"/>
                  <a:pt x="1836" y="2"/>
                </a:cubicBezTo>
                <a:cubicBezTo>
                  <a:pt x="1982" y="4"/>
                  <a:pt x="2098" y="178"/>
                  <a:pt x="2244" y="182"/>
                </a:cubicBezTo>
                <a:cubicBezTo>
                  <a:pt x="2390" y="186"/>
                  <a:pt x="2562" y="24"/>
                  <a:pt x="2712" y="26"/>
                </a:cubicBezTo>
                <a:cubicBezTo>
                  <a:pt x="2862" y="28"/>
                  <a:pt x="2998" y="192"/>
                  <a:pt x="3144" y="194"/>
                </a:cubicBezTo>
                <a:cubicBezTo>
                  <a:pt x="3290" y="196"/>
                  <a:pt x="3439" y="117"/>
                  <a:pt x="3588" y="3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429000" y="6130080"/>
            <a:ext cx="4876920" cy="311400"/>
          </a:xfrm>
          <a:custGeom>
            <a:avLst/>
            <a:gdLst/>
            <a:ahLst/>
            <a:rect l="l" t="t" r="r" b="b"/>
            <a:pathLst>
              <a:path w="3588" h="196">
                <a:moveTo>
                  <a:pt x="0" y="182"/>
                </a:moveTo>
                <a:cubicBezTo>
                  <a:pt x="101" y="117"/>
                  <a:pt x="202" y="52"/>
                  <a:pt x="312" y="50"/>
                </a:cubicBezTo>
                <a:cubicBezTo>
                  <a:pt x="422" y="48"/>
                  <a:pt x="532" y="174"/>
                  <a:pt x="660" y="170"/>
                </a:cubicBezTo>
                <a:cubicBezTo>
                  <a:pt x="788" y="166"/>
                  <a:pt x="962" y="26"/>
                  <a:pt x="1080" y="26"/>
                </a:cubicBezTo>
                <a:cubicBezTo>
                  <a:pt x="1198" y="26"/>
                  <a:pt x="1242" y="174"/>
                  <a:pt x="1368" y="170"/>
                </a:cubicBezTo>
                <a:cubicBezTo>
                  <a:pt x="1494" y="166"/>
                  <a:pt x="1690" y="0"/>
                  <a:pt x="1836" y="2"/>
                </a:cubicBezTo>
                <a:cubicBezTo>
                  <a:pt x="1982" y="4"/>
                  <a:pt x="2098" y="178"/>
                  <a:pt x="2244" y="182"/>
                </a:cubicBezTo>
                <a:cubicBezTo>
                  <a:pt x="2390" y="186"/>
                  <a:pt x="2562" y="24"/>
                  <a:pt x="2712" y="26"/>
                </a:cubicBezTo>
                <a:cubicBezTo>
                  <a:pt x="2862" y="28"/>
                  <a:pt x="2998" y="192"/>
                  <a:pt x="3144" y="194"/>
                </a:cubicBezTo>
                <a:cubicBezTo>
                  <a:pt x="3290" y="196"/>
                  <a:pt x="3439" y="117"/>
                  <a:pt x="3588" y="3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886360"/>
            <a:ext cx="117360" cy="209520"/>
          </a:xfrm>
          <a:custGeom>
            <a:avLst/>
            <a:gdLst/>
            <a:ahLst/>
            <a:rect l="l" t="t" r="r" b="b"/>
            <a:pathLst>
              <a:path w="74" h="132">
                <a:moveTo>
                  <a:pt x="0" y="0"/>
                </a:moveTo>
                <a:cubicBezTo>
                  <a:pt x="35" y="25"/>
                  <a:pt x="70" y="50"/>
                  <a:pt x="72" y="72"/>
                </a:cubicBezTo>
                <a:cubicBezTo>
                  <a:pt x="74" y="94"/>
                  <a:pt x="43" y="113"/>
                  <a:pt x="12" y="1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48680" y="5638680"/>
            <a:ext cx="117360" cy="743040"/>
          </a:xfrm>
          <a:custGeom>
            <a:avLst/>
            <a:gdLst/>
            <a:ahLst/>
            <a:rect l="l" t="t" r="r" b="b"/>
            <a:pathLst>
              <a:path w="74" h="468">
                <a:moveTo>
                  <a:pt x="0" y="0"/>
                </a:moveTo>
                <a:cubicBezTo>
                  <a:pt x="35" y="57"/>
                  <a:pt x="70" y="114"/>
                  <a:pt x="72" y="192"/>
                </a:cubicBezTo>
                <a:cubicBezTo>
                  <a:pt x="74" y="270"/>
                  <a:pt x="43" y="369"/>
                  <a:pt x="12" y="4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lektrická pevnost kab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apětí, které musí izolace vydržet, spojíme-li všechny žíly a měříme proti plášti (u celoplastových kabelů proti stíněn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u běžných kabelů - 2kV při 50H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l. Pevnost se zvyšuje se stoupající izolací jednotlivých vodičů (zvýšením počtu papírových pásků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ační odpor pláš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e pohybuje okolo 10 000 M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019040" y="369360"/>
            <a:ext cx="5124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arametry kabe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nosová méd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39720"/>
            <a:ext cx="7772400" cy="47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přenosu zprávy je zpráva přeměněna na signál. Signálem je zpráva přeměněna do konkrétní fyzikální formy, která je vhodná pro přenos určitým prostřed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lekomunikační technice rozlišujeme signály akustické, optické, elektrické, pro které jsou vhodná určitá přenosová prostředí (méd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označení kabelu je možné zjistit druh kabelu, materiál jader, materiál izolace žil a pláště, jmenovitý počet prvků, způsob provedení a průměr ja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619440" y="369360"/>
            <a:ext cx="552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načení kabe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nak pro druh kab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dělovací kab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dělovací kabel dálkov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R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hlasový kab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dělovací kab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teriál j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iní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litina hliníku (VUK 33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kládáme za za písmeno T,D,R,S druhu kabe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3619440" y="369360"/>
            <a:ext cx="552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načení kabe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1257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uh izolace j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Y (U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yvinylchlorid (PV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yethylén (P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uma (pry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alónková PE izo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-li toto písmeno vynecháno jedná se o vzduchopapírovo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zola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teriál pláš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lo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gované olo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iní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Y (U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lyvinylchlorid (PV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lyethylén (P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619440" y="369360"/>
            <a:ext cx="552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načení kabe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580760"/>
            <a:ext cx="77724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 ochrany pláš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V(A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lákninový o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asivní protikorozní ochrana z PV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tikorozní pásková ochrana z PV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ancíř z ocelových pás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ancíř z ocelových drát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esílený pancíř z kabelových ocelových drátů (říčn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veden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ancíř z hliníkových drát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 písmenou symbolikou se připojuje údaj o počtu prvků, způsob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vedení (párové P; XN; XV) a průměru jader v 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619440" y="369360"/>
            <a:ext cx="552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načení kabe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1580760"/>
            <a:ext cx="77724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y označení kab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CEKEZE 50P 0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sdělovací kabel místní (TK) s měděnými jádry (C), s PE izolací jader (E), s pláštěm z PE (E), s pancířem z hliníkových drátů (Z) a ochranným obalem PE (E), s 50 páry (50p) a jmenovitým průměrem jader 0,5 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CKOYPV 300 XN 0,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sdělovací kabel místní (TK) s měděnými jádry (C), se vzducho-papírovou izolací jader (bez označení), s olověným pláštěm (O), s pasivní protikorozní ochranou z PVC (Y), s pancířem z ocelových pásků (P) a vlákninovým obalem (V), s 300 čtyřkami (300XN) a jmenovitém průměru jader 0,8 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619440" y="369360"/>
            <a:ext cx="552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načení kabe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nosová méd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tal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p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duch - radiové vl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ujícím faktorem v souvislosti s nasazenými médii je šířka pá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etalická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metrická vedení (symetrický pá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-dvojice spirálově stočených vodičů v kabe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-dvojice paralelních vodičů zavěšených na izolátor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axiální vedení (koaxialní pá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-dvojice souosých vodič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Rozdělení podle umístě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dzemní ve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emní kabelové ved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ymetrické kab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esymetrické kab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mbinované kab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ořské kabel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Nadzemní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8688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ro přenos signálů v pásmu od 0-150 kHz (rozhlas po drát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alizovány bronzovými nebo ocelovými vodiči o průměru 2-4 m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výhoda závislost na klimatických podmínká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současnosti využití VVN vedení pro přenos signálů dálkového ovládání a signalizace (pásmo 30kHz-700kHz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emní kabelové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1892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lač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lož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ěs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nos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č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známka :nejčastěji umísťovány do země do hloubky 80 cm, kde js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ráněny proti mechanickému poškození a klimatickým  změná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Úložné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ládají se volně do země (do tzv. kynety=pískové lože v kabelovém příkopu, cihly a signální fó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7760" y="369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ávlačné kabe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tahují se do kabelov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y kabelov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árnicové tra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odurové trubky (menší součinitel tření, nehrozí poško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20:49:23Z</dcterms:created>
  <dc:creator>Stanislav Portl</dc:creator>
  <dc:description/>
  <dc:language>en-US</dc:language>
  <cp:lastModifiedBy>Stanislav Portl</cp:lastModifiedBy>
  <dcterms:modified xsi:type="dcterms:W3CDTF">2000-10-08T22:08:17Z</dcterms:modified>
  <cp:revision>37</cp:revision>
  <dc:subject/>
  <dc:title>TKV-Metalická vedení</dc:title>
</cp:coreProperties>
</file>